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1" name=""/>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PlaceHolder 1"/>
          <p:cNvSpPr>
            <a:spLocks noGrp="1"/>
          </p:cNvSpPr>
          <p:nvPr>
            <p:ph type="sldImg"/>
          </p:nvPr>
        </p:nvSpPr>
        <p:spPr>
          <a:xfrm>
            <a:off x="-11798280" y="-11798280"/>
            <a:ext cx="11796840" cy="1231740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203" name="PlaceHolder 2"/>
          <p:cNvSpPr>
            <a:spLocks noGrp="1"/>
          </p:cNvSpPr>
          <p:nvPr>
            <p:ph type="body"/>
          </p:nvPr>
        </p:nvSpPr>
        <p:spPr>
          <a:xfrm>
            <a:off x="914040" y="3257280"/>
            <a:ext cx="7311960" cy="308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75D5A8-82CD-495C-A4E1-BF72242B6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10EC78-509C-46D0-A09D-AF0A56599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DDB69E-6E2E-4141-AB09-ECC1A11C06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9384A1-3680-4008-94BA-6B95DB3179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0AF4D-686D-4FD4-9367-1E4B79979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7F5DA-FE6E-4379-95A7-27643DC09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1A31F-BC1C-4122-9C8E-F423755AF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6A8E3-35A7-41C1-9675-C06704D5D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A1238-A039-4CEB-8C16-2010B4DAE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56A4D-41A1-4102-B080-26E5995C7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38281-BFF1-4393-B999-680169E60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0CF51-07B5-4ECA-BE41-1B47F393A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BF60A-4C61-454C-9D8A-D8ABD1878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1EE3E-497F-45E6-9276-3A206D6CB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AE662-F0F6-4BE5-A8BB-7D1287650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41732-1C16-4D67-BDA1-9AC603C24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848E6-88BB-412D-B960-AD27C76BE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0F2931-863C-489E-851E-A2A61C822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97707-4260-4BC9-A10A-174AADEB6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7C1F48-6ADE-40E7-811B-705DF9044A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1"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2CF98F-D12A-43E7-A42B-A41196840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136A20-6269-4E60-8F23-9A48A898A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3DF530-DFF8-4D69-ACD8-1632312E3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09D4F-2696-40A9-9851-0F120EC38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53D84-B723-4692-B3A3-48190A335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12E3C-973C-4314-B506-DAF95FA2B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ABDC1-ED0E-4E5D-8B9C-26E1E523D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EFFC1-566B-491C-B0A7-BBFBFFC4B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32DBB-6A93-4D9E-8EF6-25DD0F03B6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67B5E0-1621-4E96-A25D-5CAC3DECBF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1BDD47-050D-47C3-BC13-89FC97F593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9A5EF-994B-457F-9497-EF4A396E9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FDCB8-1F7B-4C33-9AA8-817F65A023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F10CF7-AC90-4EA4-A0B7-95CD38FD3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7C1E9-F853-4F29-8D7B-A0D980A61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206FF8-58B8-423F-9BCE-2F77CEDD8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5A2B7A-2093-4627-82CB-F032B2C00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AF436-032E-4D06-BE12-F00456496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0FC7A-726B-4336-A8DC-3987A5068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88E26-6D54-45F4-BC3C-51AADF6C3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0F1BF4-0D4C-410A-BD15-7465CB601E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9"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740B06-0616-4C15-8191-38825A175D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7CF28D-A9CD-4B2F-AFB1-970D3EBFE2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96BAB5-79C4-4414-8BCA-2C1942602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A0CE11-5E0E-4573-BBEE-78A886C10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B0CCFB-F6BD-44A5-9D9A-C6A176C94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9C628C-1DDE-4DC3-8912-44F797609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E10845-CD29-4560-AEAB-9D2DEFCEF0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C4021-EDF5-452A-9200-99DFC52431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3320"/>
          </a:xfrm>
          <a:prstGeom prst="rect">
            <a:avLst/>
          </a:prstGeom>
          <a:noFill/>
          <a:ln w="0">
            <a:noFill/>
          </a:ln>
        </p:spPr>
        <p:txBody>
          <a:bodyPr lIns="90000" rIns="90000" tIns="46800" bIns="46800" anchor="t">
            <a:normAutofit fontScale="94000"/>
          </a:bodyPr>
          <a:p>
            <a:pPr marL="32220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Black"/>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AC779F-7DD4-4294-8A7A-D625E17522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1071720" y="304920"/>
            <a:ext cx="7613280" cy="1106280"/>
            <a:chOff x="1071720" y="304920"/>
            <a:chExt cx="7613280" cy="1106280"/>
          </a:xfrm>
        </p:grpSpPr>
        <p:sp>
          <p:nvSpPr>
            <p:cNvPr id="106"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758124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632232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2"/>
          <p:cNvSpPr>
            <a:spLocks noGrp="1"/>
          </p:cNvSpPr>
          <p:nvPr>
            <p:ph type="dt" idx="7"/>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 name="PlaceHolder 3"/>
          <p:cNvSpPr>
            <a:spLocks noGrp="1"/>
          </p:cNvSpPr>
          <p:nvPr>
            <p:ph type="ftr" idx="8"/>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 name="PlaceHolder 4"/>
          <p:cNvSpPr>
            <a:spLocks noGrp="1"/>
          </p:cNvSpPr>
          <p:nvPr>
            <p:ph type="sldNum" idx="9"/>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474BA-57B9-43C0-82BD-0D394BF7AD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 name="PlaceHolder 5"/>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658520" y="1600200"/>
            <a:ext cx="6837480" cy="3200400"/>
            <a:chOff x="1658520" y="1600200"/>
            <a:chExt cx="6837480" cy="3200400"/>
          </a:xfrm>
        </p:grpSpPr>
        <p:sp>
          <p:nvSpPr>
            <p:cNvPr id="153"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PlaceHolder 1"/>
          <p:cNvSpPr>
            <a:spLocks noGrp="1"/>
          </p:cNvSpPr>
          <p:nvPr>
            <p:ph type="dt" idx="10"/>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2"/>
          <p:cNvSpPr>
            <a:spLocks noGrp="1"/>
          </p:cNvSpPr>
          <p:nvPr>
            <p:ph type="ftr" idx="11"/>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1" name="PlaceHolder 3"/>
          <p:cNvSpPr>
            <a:spLocks noGrp="1"/>
          </p:cNvSpPr>
          <p:nvPr>
            <p:ph type="sldNum" idx="12"/>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8EF4F7-5706-4CF9-9184-60A082E942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2" name="PlaceHolder 4"/>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63"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33280"/>
            <a:ext cx="7772400" cy="3386160"/>
          </a:xfrm>
          <a:prstGeom prst="rect">
            <a:avLst/>
          </a:prstGeom>
          <a:noFill/>
          <a:ln w="0">
            <a:noFill/>
          </a:ln>
        </p:spPr>
        <p:txBody>
          <a:bodyPr lIns="90000" rIns="90000" tIns="46800" bIns="46800"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r>
              <a:rPr b="1" lang="en-US" sz="5400" spc="-1" strike="noStrike">
                <a:solidFill>
                  <a:srgbClr val="000000"/>
                </a:solidFill>
                <a:latin typeface="Tempus Sans ITC"/>
              </a:rPr>
              <a:t>Parental Involvement</a:t>
            </a:r>
            <a:br>
              <a:rPr sz="5400"/>
            </a:br>
            <a:r>
              <a:rPr b="1" lang="en-US" sz="5400" spc="-1" strike="noStrike">
                <a:solidFill>
                  <a:srgbClr val="000000"/>
                </a:solidFill>
                <a:latin typeface="Tempus Sans ITC"/>
              </a:rPr>
              <a:t>and </a:t>
            </a:r>
            <a:br>
              <a:rPr sz="3200"/>
            </a:br>
            <a:r>
              <a:rPr b="1" lang="en-US" sz="5400" spc="-1" strike="noStrike">
                <a:solidFill>
                  <a:srgbClr val="000000"/>
                </a:solidFill>
                <a:latin typeface="Tempus Sans ITC"/>
              </a:rPr>
              <a:t>Teacher Communication</a:t>
            </a:r>
            <a:endParaRPr b="0" lang="en-US" sz="5400" spc="-1" strike="noStrike">
              <a:solidFill>
                <a:srgbClr val="000000"/>
              </a:solidFill>
              <a:latin typeface="Arial"/>
            </a:endParaRPr>
          </a:p>
        </p:txBody>
      </p:sp>
      <p:sp>
        <p:nvSpPr>
          <p:cNvPr id="205" name="PlaceHolder 2"/>
          <p:cNvSpPr>
            <a:spLocks noGrp="1"/>
          </p:cNvSpPr>
          <p:nvPr>
            <p:ph type="subTitle"/>
          </p:nvPr>
        </p:nvSpPr>
        <p:spPr>
          <a:xfrm>
            <a:off x="1371600" y="4495680"/>
            <a:ext cx="6400800" cy="1981440"/>
          </a:xfrm>
          <a:prstGeom prst="rect">
            <a:avLst/>
          </a:prstGeom>
          <a:noFill/>
          <a:ln w="0">
            <a:noFill/>
          </a:ln>
        </p:spPr>
        <p:txBody>
          <a:bodyPr lIns="90000" rIns="90000" tIns="46800" bIns="46800" anchor="t">
            <a:noAutofit/>
          </a:bodyPr>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Inna Shenker</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Fall 2010</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Edu. 7201</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Prof. O’Connor~Petrus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63320"/>
            <a:ext cx="8229600" cy="12826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800" spc="-1" strike="noStrike">
                <a:solidFill>
                  <a:srgbClr val="1f1f1f"/>
                </a:solidFill>
                <a:latin typeface="Tempus Sans ITC"/>
              </a:rPr>
              <a:t>      </a:t>
            </a:r>
            <a:r>
              <a:rPr b="0" lang="en-US" sz="7800" spc="-1" strike="noStrike">
                <a:solidFill>
                  <a:srgbClr val="1f1f1f"/>
                </a:solidFill>
                <a:latin typeface="Tempus Sans ITC"/>
              </a:rPr>
              <a:t>Citations</a:t>
            </a:r>
            <a:endParaRPr b="0" lang="en-US" sz="7800" spc="-1" strike="noStrike">
              <a:solidFill>
                <a:srgbClr val="000000"/>
              </a:solidFill>
              <a:latin typeface="Arial"/>
            </a:endParaRPr>
          </a:p>
        </p:txBody>
      </p:sp>
      <p:sp>
        <p:nvSpPr>
          <p:cNvPr id="224" name="PlaceHolder 2"/>
          <p:cNvSpPr>
            <a:spLocks noGrp="1"/>
          </p:cNvSpPr>
          <p:nvPr>
            <p:ph/>
          </p:nvPr>
        </p:nvSpPr>
        <p:spPr>
          <a:xfrm>
            <a:off x="304920" y="1752480"/>
            <a:ext cx="8153280" cy="4843440"/>
          </a:xfrm>
          <a:prstGeom prst="rect">
            <a:avLst/>
          </a:prstGeom>
          <a:noFill/>
          <a:ln w="0">
            <a:noFill/>
          </a:ln>
        </p:spPr>
        <p:txBody>
          <a:bodyPr lIns="90000" rIns="90000" tIns="46800" bIns="46800" anchor="t">
            <a:normAutofit fontScale="94000"/>
          </a:bodyPr>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Joshi, Arti   Eberly, Jody   Konzal Jean. </a:t>
            </a:r>
            <a:r>
              <a:rPr b="0" i="1" lang="en-US" sz="1500" spc="-1" strike="noStrike">
                <a:solidFill>
                  <a:srgbClr val="1f1f1f"/>
                </a:solidFill>
                <a:latin typeface="Tempus Sans ITC"/>
              </a:rPr>
              <a:t>“</a:t>
            </a:r>
            <a:r>
              <a:rPr b="0" lang="en-US" sz="1500" spc="-1" strike="noStrike">
                <a:solidFill>
                  <a:srgbClr val="1f1f1f"/>
                </a:solidFill>
                <a:latin typeface="Tempus Sans ITC"/>
              </a:rPr>
              <a:t>Dialogue across cultures: a teachers’ perceptions  about communication with diverse Families</a:t>
            </a:r>
            <a:r>
              <a:rPr b="0" i="1" lang="en-US" sz="1500" spc="-1" strike="noStrike">
                <a:solidFill>
                  <a:srgbClr val="1f1f1f"/>
                </a:solidFill>
                <a:latin typeface="Tempus Sans ITC"/>
              </a:rPr>
              <a:t>.</a:t>
            </a:r>
            <a:r>
              <a:rPr b="0" lang="en-US" sz="1500" spc="-1" strike="noStrike">
                <a:solidFill>
                  <a:srgbClr val="1f1f1f"/>
                </a:solidFill>
                <a:latin typeface="Tempus Sans ITC"/>
              </a:rPr>
              <a:t>” </a:t>
            </a:r>
            <a:r>
              <a:rPr b="0" i="1" lang="en-US" sz="1500" spc="-1" strike="noStrike">
                <a:solidFill>
                  <a:srgbClr val="1f1f1f"/>
                </a:solidFill>
                <a:latin typeface="Tempus Sans ITC"/>
              </a:rPr>
              <a:t>Understanding Family Diversity</a:t>
            </a:r>
            <a:r>
              <a:rPr b="0" lang="en-US" sz="1500" spc="-1" strike="noStrike">
                <a:solidFill>
                  <a:srgbClr val="1f1f1f"/>
                </a:solidFill>
                <a:latin typeface="Tempus Sans ITC"/>
              </a:rPr>
              <a:t>. Winter 2005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Huntsinger, S. Carol.    Jose, E. Paul.  “Parental involvement in children’s schooling: Different meanings in different cultures.”  </a:t>
            </a:r>
            <a:r>
              <a:rPr b="0" i="1" lang="en-US" sz="1500" spc="-1" strike="noStrike">
                <a:solidFill>
                  <a:srgbClr val="1f1f1f"/>
                </a:solidFill>
                <a:latin typeface="Tempus Sans ITC"/>
              </a:rPr>
              <a:t>Early Childhood Research</a:t>
            </a:r>
            <a:r>
              <a:rPr b="0" lang="en-US" sz="1500" spc="-1" strike="noStrike">
                <a:solidFill>
                  <a:srgbClr val="1f1f1f"/>
                </a:solidFill>
                <a:latin typeface="Tempus Sans ITC"/>
              </a:rPr>
              <a:t> Quarterly Volume 24, issue 4, 4th Quarter 2009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Quintana, Anita P. and Warren, Susan R.  “Listening to the Voices of Latino Parent Volunteers”</a:t>
            </a:r>
            <a:r>
              <a:rPr b="0" i="1" lang="en-US" sz="1500" spc="-1" strike="noStrike">
                <a:solidFill>
                  <a:srgbClr val="1f1f1f"/>
                </a:solidFill>
                <a:latin typeface="Tempus Sans ITC"/>
              </a:rPr>
              <a:t>.</a:t>
            </a:r>
            <a:r>
              <a:rPr b="0" lang="en-US" sz="1500" spc="-1" strike="noStrike">
                <a:solidFill>
                  <a:srgbClr val="1f1f1f"/>
                </a:solidFill>
                <a:latin typeface="Tempus Sans ITC"/>
              </a:rPr>
              <a:t> </a:t>
            </a:r>
            <a:r>
              <a:rPr b="0" i="1" lang="en-US" sz="1500" spc="-1" strike="noStrike">
                <a:solidFill>
                  <a:srgbClr val="1f1f1f"/>
                </a:solidFill>
                <a:latin typeface="Tempus Sans ITC"/>
              </a:rPr>
              <a:t>Kappa Delta Pi Record</a:t>
            </a:r>
            <a:r>
              <a:rPr b="0" lang="en-US" sz="1500" spc="-1" strike="noStrike">
                <a:solidFill>
                  <a:srgbClr val="1f1f1f"/>
                </a:solidFill>
                <a:latin typeface="Tempus Sans ITC"/>
              </a:rPr>
              <a:t> Spring 2008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Tobolka, Darby.  “Connecting Teachers and Parents Through the Internet” </a:t>
            </a:r>
            <a:r>
              <a:rPr b="0" i="1" lang="en-US" sz="1500" spc="-1" strike="noStrike">
                <a:solidFill>
                  <a:srgbClr val="1f1f1f"/>
                </a:solidFill>
                <a:latin typeface="Tempus Sans ITC"/>
              </a:rPr>
              <a:t>Communication </a:t>
            </a:r>
            <a:r>
              <a:rPr b="0" lang="en-US" sz="1500" spc="-1" strike="noStrike">
                <a:solidFill>
                  <a:srgbClr val="1f1f1f"/>
                </a:solidFill>
                <a:latin typeface="Tempus Sans ITC"/>
              </a:rPr>
              <a:t>December 2006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Griffin, Dana and Steen, Sam. “School-Family-Community Partnerships: Applying Epstein’s Theory of the Six Types of Involvement to School Counselor Practice". </a:t>
            </a:r>
            <a:r>
              <a:rPr b="0" i="1" lang="en-US" sz="1500" spc="-1" strike="noStrike">
                <a:solidFill>
                  <a:srgbClr val="1f1f1f"/>
                </a:solidFill>
                <a:latin typeface="Tempus Sans ITC"/>
              </a:rPr>
              <a:t>American School Counseling Association</a:t>
            </a:r>
            <a:r>
              <a:rPr b="0" lang="en-US" sz="1500" spc="-1" strike="noStrike">
                <a:solidFill>
                  <a:srgbClr val="1f1f1f"/>
                </a:solidFill>
                <a:latin typeface="Tempus Sans ITC"/>
              </a:rPr>
              <a:t>. April 2010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Schumacher, Bev.  “Learning continues at home” </a:t>
            </a:r>
            <a:r>
              <a:rPr b="0" i="1" lang="en-US" sz="1500" spc="-1" strike="noStrike">
                <a:solidFill>
                  <a:srgbClr val="1f1f1f"/>
                </a:solidFill>
                <a:latin typeface="Tempus Sans ITC"/>
              </a:rPr>
              <a:t>Montessori Life</a:t>
            </a:r>
            <a:r>
              <a:rPr b="0" lang="en-US" sz="1500" spc="-1" strike="noStrike">
                <a:solidFill>
                  <a:srgbClr val="1f1f1f"/>
                </a:solidFill>
                <a:latin typeface="Tempus Sans ITC"/>
              </a:rPr>
              <a:t>. Montessori Life</a:t>
            </a:r>
            <a:r>
              <a:rPr b="0" i="1" lang="en-US" sz="1500" spc="-1" strike="noStrike">
                <a:solidFill>
                  <a:srgbClr val="1f1f1f"/>
                </a:solidFill>
                <a:latin typeface="Tempus Sans ITC"/>
              </a:rPr>
              <a:t> </a:t>
            </a:r>
            <a:r>
              <a:rPr b="0" lang="en-US" sz="1500" spc="-1" strike="noStrike">
                <a:solidFill>
                  <a:srgbClr val="1f1f1f"/>
                </a:solidFill>
                <a:latin typeface="Tempus Sans ITC"/>
              </a:rPr>
              <a:t>v.12 no.2 (Spring 2000)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Floyd, Loury Ollison.  Veron-Dotson, Lisa Jo.  “Using home learning tool kits to facilitate family involvement.”   </a:t>
            </a:r>
            <a:r>
              <a:rPr b="0" i="1" lang="en-US" sz="1500" spc="-1" strike="noStrike">
                <a:solidFill>
                  <a:srgbClr val="1f1f1f"/>
                </a:solidFill>
                <a:latin typeface="Tempus Sans ITC"/>
              </a:rPr>
              <a:t>Intervention in School and Clinic</a:t>
            </a:r>
            <a:r>
              <a:rPr b="0" lang="en-US" sz="1500" spc="-1" strike="noStrike">
                <a:solidFill>
                  <a:srgbClr val="1f1f1f"/>
                </a:solidFill>
                <a:latin typeface="Tempus Sans ITC"/>
              </a:rPr>
              <a:t> January 2009 Vol 44 numb 3</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Hoover-Dempsy, Kathleen V.   Battiato, Angela C.  Walker, Joan M.T.  Reed, Richard P.  DeJong, Jennifer M.  Jones, Kathleen P.   “Parental involvement in homework”  </a:t>
            </a:r>
            <a:r>
              <a:rPr b="0" i="1" lang="en-US" sz="1500" spc="-1" strike="noStrike">
                <a:solidFill>
                  <a:srgbClr val="1f1f1f"/>
                </a:solidFill>
                <a:latin typeface="Tempus Sans ITC"/>
              </a:rPr>
              <a:t>Educational Psychologist 2</a:t>
            </a:r>
            <a:r>
              <a:rPr b="0" lang="en-US" sz="1500" spc="-1" strike="noStrike">
                <a:solidFill>
                  <a:srgbClr val="1f1f1f"/>
                </a:solidFill>
                <a:latin typeface="Tempus Sans ITC"/>
              </a:rPr>
              <a:t>001 Lawrence Erlbaum Associates Inc.</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Watkins, Thomas J.  “Teacher communications, child achievement, and parent traits in parent involvement”  </a:t>
            </a:r>
            <a:r>
              <a:rPr b="0" i="1" lang="en-US" sz="1500" spc="-1" strike="noStrike">
                <a:solidFill>
                  <a:srgbClr val="1f1f1f"/>
                </a:solidFill>
                <a:latin typeface="Tempus Sans ITC"/>
              </a:rPr>
              <a:t>The Journals of Education Research</a:t>
            </a:r>
            <a:r>
              <a:rPr b="0" lang="en-US" sz="1500" spc="-1" strike="noStrike">
                <a:solidFill>
                  <a:srgbClr val="1f1f1f"/>
                </a:solidFill>
                <a:latin typeface="Tempus Sans ITC"/>
              </a:rPr>
              <a:t> (Washington, D.C) 91(1997):3-14.  Education full text. Web 13 Sep.2010</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000000"/>
                </a:solidFill>
                <a:latin typeface="Tempus Sans ITC"/>
              </a:rPr>
              <a:t>Wong, Shuk Wa.   Hughes, Jan N.  “Ethnicity and language contributions to dimensions of parent involvement.” </a:t>
            </a:r>
            <a:r>
              <a:rPr b="0" i="1" lang="en-US" sz="1500" spc="-1" strike="noStrike">
                <a:solidFill>
                  <a:srgbClr val="000000"/>
                </a:solidFill>
                <a:latin typeface="Tempus Sans ITC"/>
              </a:rPr>
              <a:t>School Psychology Review</a:t>
            </a:r>
            <a:r>
              <a:rPr b="0" lang="en-US" sz="1500" spc="-1" strike="noStrike">
                <a:solidFill>
                  <a:srgbClr val="000000"/>
                </a:solidFill>
                <a:latin typeface="Tempus Sans ITC"/>
              </a:rPr>
              <a:t>, 2006, Volume 35, No. 4, pp. 645-662 </a:t>
            </a: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264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200" spc="-1" strike="noStrike">
                <a:solidFill>
                  <a:srgbClr val="1f1f1f"/>
                </a:solidFill>
                <a:latin typeface="Nimbus Script"/>
              </a:rPr>
              <a:t>Statement</a:t>
            </a:r>
            <a:r>
              <a:rPr b="0" lang="en-US" sz="5200" spc="-1" strike="noStrike">
                <a:solidFill>
                  <a:srgbClr val="1f1f1f"/>
                </a:solidFill>
                <a:latin typeface="Nimbus Script"/>
              </a:rPr>
              <a:t> of the Problem</a:t>
            </a:r>
            <a:endParaRPr b="0" lang="en-US" sz="5200" spc="-1" strike="noStrike">
              <a:solidFill>
                <a:srgbClr val="000000"/>
              </a:solidFill>
              <a:latin typeface="Arial"/>
            </a:endParaRPr>
          </a:p>
        </p:txBody>
      </p:sp>
      <p:sp>
        <p:nvSpPr>
          <p:cNvPr id="207" name="PlaceHolder 2"/>
          <p:cNvSpPr>
            <a:spLocks noGrp="1"/>
          </p:cNvSpPr>
          <p:nvPr>
            <p:ph/>
          </p:nvPr>
        </p:nvSpPr>
        <p:spPr>
          <a:xfrm>
            <a:off x="456840" y="1371600"/>
            <a:ext cx="8458200" cy="4478400"/>
          </a:xfrm>
          <a:prstGeom prst="rect">
            <a:avLst/>
          </a:prstGeom>
          <a:noFill/>
          <a:ln w="0">
            <a:noFill/>
          </a:ln>
        </p:spPr>
        <p:txBody>
          <a:bodyPr lIns="90000" rIns="90000" tIns="46800" bIns="46800" anchor="t">
            <a:normAutofit fontScale="76000"/>
          </a:bodyPr>
          <a:p>
            <a:pPr marL="260640" indent="0">
              <a:lnSpc>
                <a:spcPct val="9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1" lang="en-US" sz="3200" spc="-1" strike="noStrike">
                <a:solidFill>
                  <a:srgbClr val="1f1f1f"/>
                </a:solidFill>
                <a:latin typeface="Nimbus Script"/>
              </a:rPr>
              <a:t>Parents of elementary schools (whether public, private, or charter, etc) are not always involved with the school system. Teachers are looking for different ways to get parents involved with the schools, classrooms, and at home. Parents are not coming to parent teacher conferences, responding to letters, volunteering, or helping out at home with their children for various reasons. Some reasons may be: language barrier, lack of cultural understanding, and so on. Parents and teachers need to find a way of communicating, working together,  and  improving  ways of being involved schools and at hom</a:t>
            </a:r>
            <a:r>
              <a:rPr b="1" lang="en-US" sz="3200" spc="-1" strike="noStrike">
                <a:solidFill>
                  <a:srgbClr val="1f1f1f"/>
                </a:solidFill>
                <a:latin typeface="Nimbus Script"/>
              </a:rPr>
              <a:t>e</a:t>
            </a:r>
            <a:r>
              <a:rPr b="1" lang="en-US" sz="3200" spc="-1" strike="noStrike">
                <a:solidFill>
                  <a:srgbClr val="000000"/>
                </a:solidFill>
                <a:latin typeface="Nimbus Script"/>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1f1f1f"/>
                </a:solidFill>
                <a:latin typeface="Tempus Sans ITC"/>
              </a:rPr>
              <a:t>Communication</a:t>
            </a:r>
            <a:r>
              <a:rPr b="0" lang="en-US" sz="5400" spc="-1" strike="noStrike">
                <a:solidFill>
                  <a:srgbClr val="1f1f1f"/>
                </a:solidFill>
                <a:latin typeface="Tempus Sans ITC"/>
              </a:rPr>
              <a:t> with parents</a:t>
            </a:r>
            <a:endParaRPr b="0" lang="en-US" sz="5400" spc="-1" strike="noStrike">
              <a:solidFill>
                <a:srgbClr val="000000"/>
              </a:solidFill>
              <a:latin typeface="Arial"/>
            </a:endParaRPr>
          </a:p>
        </p:txBody>
      </p:sp>
      <p:sp>
        <p:nvSpPr>
          <p:cNvPr id="209" name="PlaceHolder 2"/>
          <p:cNvSpPr>
            <a:spLocks noGrp="1"/>
          </p:cNvSpPr>
          <p:nvPr>
            <p:ph/>
          </p:nvPr>
        </p:nvSpPr>
        <p:spPr>
          <a:xfrm>
            <a:off x="456840" y="1523520"/>
            <a:ext cx="8381880" cy="7526520"/>
          </a:xfrm>
          <a:prstGeom prst="rect">
            <a:avLst/>
          </a:prstGeom>
          <a:noFill/>
          <a:ln w="0">
            <a:noFill/>
          </a:ln>
        </p:spPr>
        <p:txBody>
          <a:bodyPr lIns="90000" rIns="90000" tIns="46800" bIns="46800" anchor="t">
            <a:normAutofit/>
          </a:bodyPr>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000" spc="-1" strike="noStrike">
                <a:solidFill>
                  <a:srgbClr val="1f1f1f"/>
                </a:solidFill>
                <a:latin typeface="Tempus Sans ITC"/>
              </a:rPr>
              <a:t>Finding ways through cultures</a:t>
            </a:r>
            <a:r>
              <a:rPr b="0" lang="en-US" sz="4400" spc="-1" strike="noStrike">
                <a:solidFill>
                  <a:srgbClr val="1f1f1f"/>
                </a:solidFill>
                <a:latin typeface="Tempus Sans ITC"/>
              </a:rPr>
              <a:t>  </a:t>
            </a:r>
            <a:r>
              <a:rPr b="0" lang="en-US" sz="1800" spc="-1" strike="noStrike">
                <a:solidFill>
                  <a:srgbClr val="1f1f1f"/>
                </a:solidFill>
                <a:latin typeface="Tempus Sans ITC"/>
              </a:rPr>
              <a:t>Joshi, Arti   Eberly, Jody   Konzal Jean. </a:t>
            </a:r>
            <a:r>
              <a:rPr b="0" i="1" lang="en-US" sz="1800" spc="-1" strike="noStrike">
                <a:solidFill>
                  <a:srgbClr val="1f1f1f"/>
                </a:solidFill>
                <a:latin typeface="Tempus Sans ITC"/>
              </a:rPr>
              <a:t>“</a:t>
            </a:r>
            <a:r>
              <a:rPr b="0" lang="en-US" sz="1800" spc="-1" strike="noStrike">
                <a:solidFill>
                  <a:srgbClr val="1f1f1f"/>
                </a:solidFill>
                <a:latin typeface="Tempus Sans ITC"/>
              </a:rPr>
              <a:t> 2005</a:t>
            </a:r>
            <a:r>
              <a:rPr b="0" lang="en-US" sz="1800" spc="-1" strike="noStrike">
                <a:solidFill>
                  <a:srgbClr val="1f1f1f"/>
                </a:solidFill>
                <a:latin typeface="Arial"/>
              </a:rPr>
              <a:t> </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Teachers learning about their students backgrounds</a:t>
            </a:r>
            <a:r>
              <a:rPr b="0" lang="en-US" sz="44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Parents finding it difficult to communicate with teachers and the school staff for various reasons and vice versa</a:t>
            </a:r>
            <a:r>
              <a:rPr b="0" lang="en-US" sz="4400" spc="-1" strike="noStrike">
                <a:solidFill>
                  <a:srgbClr val="1f1f1f"/>
                </a:solidFill>
                <a:latin typeface="Tempus Sans ITC"/>
              </a:rPr>
              <a:t>  </a:t>
            </a:r>
            <a:r>
              <a:rPr b="0" lang="en-US" sz="1800" spc="-1" strike="noStrike">
                <a:solidFill>
                  <a:srgbClr val="1f1f1f"/>
                </a:solidFill>
                <a:latin typeface="Tempus Sans ITC"/>
              </a:rPr>
              <a:t>Joshi, Arti   Eberly, Jody   Konzal Jean. 2005</a:t>
            </a:r>
            <a:r>
              <a:rPr b="0" lang="en-US" sz="1800" spc="-1" strike="noStrike">
                <a:solidFill>
                  <a:srgbClr val="1f1f1f"/>
                </a:solidFill>
                <a:latin typeface="Arial"/>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90000"/>
              </a:lnSpc>
              <a:spcBef>
                <a:spcPts val="176"/>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700" spc="-1" strike="noStrike">
              <a:solidFill>
                <a:srgbClr val="000000"/>
              </a:solidFill>
              <a:latin typeface="Arial"/>
            </a:endParaRPr>
          </a:p>
          <a:p>
            <a:pPr marL="339840" indent="-339840">
              <a:lnSpc>
                <a:spcPct val="90000"/>
              </a:lnSpc>
              <a:spcBef>
                <a:spcPts val="24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Some parents prefer emails, where they are informed. Teachers see improvements.</a:t>
            </a:r>
            <a:r>
              <a:rPr b="0" lang="en-US" sz="3200" spc="-1" strike="noStrike">
                <a:solidFill>
                  <a:srgbClr val="1f1f1f"/>
                </a:solidFill>
                <a:latin typeface="Tempus Sans ITC"/>
              </a:rPr>
              <a:t> </a:t>
            </a:r>
            <a:r>
              <a:rPr b="0" lang="en-US" sz="1800" spc="-1" strike="noStrike">
                <a:solidFill>
                  <a:srgbClr val="1f1f1f"/>
                </a:solidFill>
                <a:latin typeface="Tempus Sans ITC"/>
              </a:rPr>
              <a:t>Tobolka, Darby. 2006 </a:t>
            </a:r>
            <a:endParaRPr b="0" lang="en-US" sz="1800" spc="-1" strike="noStrike">
              <a:solidFill>
                <a:srgbClr val="000000"/>
              </a:solidFill>
              <a:latin typeface="Arial"/>
            </a:endParaRPr>
          </a:p>
          <a:p>
            <a:pPr marL="339840" indent="0">
              <a:lnSpc>
                <a:spcPct val="9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3200" spc="-1" strike="noStrike">
              <a:solidFill>
                <a:srgbClr val="000000"/>
              </a:solidFill>
              <a:latin typeface="Arial"/>
            </a:endParaRPr>
          </a:p>
          <a:p>
            <a:pPr marL="339840" indent="0">
              <a:lnSpc>
                <a:spcPct val="90000"/>
              </a:lnSpc>
              <a:spcBef>
                <a:spcPts val="3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400" spc="-1" strike="noStrike">
              <a:solidFill>
                <a:srgbClr val="000000"/>
              </a:solidFill>
              <a:latin typeface="Arial"/>
            </a:endParaRPr>
          </a:p>
          <a:p>
            <a:pPr marL="339840" indent="0">
              <a:lnSpc>
                <a:spcPct val="90000"/>
              </a:lnSpc>
              <a:spcBef>
                <a:spcPts val="11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4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455760"/>
            <a:ext cx="8001000" cy="14349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1f1f1f"/>
                </a:solidFill>
                <a:latin typeface="Tempus Sans ITC"/>
              </a:rPr>
              <a:t>Parents’ involvement in homework and schools ~Pr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228600" y="1600200"/>
            <a:ext cx="8686800" cy="5773680"/>
          </a:xfrm>
          <a:prstGeom prst="rect">
            <a:avLst/>
          </a:prstGeom>
          <a:noFill/>
          <a:ln w="0">
            <a:noFill/>
          </a:ln>
        </p:spPr>
        <p:txBody>
          <a:bodyPr lIns="90000" rIns="90000" tIns="46800" bIns="46800" anchor="t">
            <a:normAutofit/>
          </a:bodyPr>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help their children with homework</a:t>
            </a:r>
            <a:r>
              <a:rPr b="1" lang="en-US" sz="1800" spc="-1" strike="noStrike">
                <a:solidFill>
                  <a:srgbClr val="1f1f1f"/>
                </a:solidFill>
                <a:latin typeface="Tempus Sans ITC"/>
              </a:rPr>
              <a:t> </a:t>
            </a:r>
            <a:r>
              <a:rPr b="0" lang="en-US" sz="1800" spc="-1" strike="noStrike">
                <a:solidFill>
                  <a:srgbClr val="1f1f1f"/>
                </a:solidFill>
                <a:latin typeface="Tempus Sans ITC"/>
              </a:rPr>
              <a:t>Schumacher, Bev.  Spring 2000</a:t>
            </a:r>
            <a:endParaRPr b="0" lang="en-US" sz="18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involve teachers’ methods in their help </a:t>
            </a:r>
            <a:r>
              <a:rPr b="1" lang="en-US" sz="1600" spc="-1" strike="noStrike">
                <a:solidFill>
                  <a:srgbClr val="1f1f1f"/>
                </a:solidFill>
                <a:latin typeface="Tempus Sans ITC"/>
              </a:rPr>
              <a:t> </a:t>
            </a:r>
            <a:r>
              <a:rPr b="0" lang="en-US" sz="1800" spc="-1" strike="noStrike">
                <a:solidFill>
                  <a:srgbClr val="1f1f1f"/>
                </a:solidFill>
                <a:latin typeface="Tempus Sans ITC"/>
              </a:rPr>
              <a:t>Floyd, Loury Ollison.  Veron-Dotson, Lisa Jo.  2009 </a:t>
            </a:r>
            <a:endParaRPr b="0" lang="en-US" sz="18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discipline their children to get their homework done and on time</a:t>
            </a:r>
            <a:endParaRPr b="0" lang="en-US" sz="24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Teachers see improvement in working on tasks and grades  </a:t>
            </a:r>
            <a:endParaRPr b="0" lang="en-US" sz="24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1600" spc="-1" strike="noStrike">
                <a:solidFill>
                  <a:srgbClr val="1f1f1f"/>
                </a:solidFill>
                <a:latin typeface="Tempus Sans ITC"/>
              </a:rPr>
              <a:t>In addition:</a:t>
            </a:r>
            <a:endParaRPr b="0" lang="en-US" sz="16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trust </a:t>
            </a:r>
            <a:r>
              <a:rPr b="1" lang="en-US" sz="1600" spc="-1" strike="noStrike">
                <a:solidFill>
                  <a:srgbClr val="1f1f1f"/>
                </a:solidFill>
                <a:latin typeface="Tempus Sans ITC"/>
              </a:rPr>
              <a:t>   </a:t>
            </a:r>
            <a:r>
              <a:rPr b="0" lang="en-US" sz="1800" spc="-1" strike="noStrike">
                <a:solidFill>
                  <a:srgbClr val="1f1f1f"/>
                </a:solidFill>
                <a:latin typeface="Tempus Sans ITC"/>
              </a:rPr>
              <a:t>Watkins, Thomas J.  2010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education on students</a:t>
            </a:r>
            <a:r>
              <a:rPr b="1" lang="en-US" sz="1600" spc="-1" strike="noStrike">
                <a:solidFill>
                  <a:srgbClr val="1f1f1f"/>
                </a:solidFill>
                <a:latin typeface="Tempus Sans ITC"/>
              </a:rPr>
              <a:t> </a:t>
            </a:r>
            <a:r>
              <a:rPr b="0" lang="en-US" sz="1800" spc="-1" strike="noStrike">
                <a:solidFill>
                  <a:srgbClr val="1f1f1f"/>
                </a:solidFill>
                <a:latin typeface="Tempus Sans ITC"/>
              </a:rPr>
              <a:t>Griffin, Dana and Steen, Sam. 2010 </a:t>
            </a:r>
            <a:endParaRPr b="0" lang="en-US" sz="1800" spc="-1" strike="noStrike">
              <a:solidFill>
                <a:srgbClr val="000000"/>
              </a:solidFill>
              <a:latin typeface="Arial"/>
            </a:endParaRPr>
          </a:p>
          <a:p>
            <a:pPr marL="606600" indent="0">
              <a:lnSpc>
                <a:spcPct val="80000"/>
              </a:lnSpc>
              <a:spcBef>
                <a:spcPts val="249"/>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know what is happening in the school system </a:t>
            </a:r>
            <a:endParaRPr b="0" lang="en-US" sz="20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volunteering</a:t>
            </a:r>
            <a:r>
              <a:rPr b="1" lang="en-US" sz="1600" spc="-1" strike="noStrike">
                <a:solidFill>
                  <a:srgbClr val="1f1f1f"/>
                </a:solidFill>
                <a:latin typeface="Tempus Sans ITC"/>
              </a:rPr>
              <a:t> </a:t>
            </a:r>
            <a:r>
              <a:rPr b="0" lang="en-US" sz="1800" spc="-1" strike="noStrike">
                <a:solidFill>
                  <a:srgbClr val="1f1f1f"/>
                </a:solidFill>
                <a:latin typeface="Tempus Sans ITC"/>
              </a:rPr>
              <a:t>Huntsinger, S. Carol.    Jose, E. Paul.   2009 </a:t>
            </a:r>
            <a:endParaRPr b="0" lang="en-US" sz="1800" spc="-1" strike="noStrike">
              <a:solidFill>
                <a:srgbClr val="000000"/>
              </a:solidFill>
              <a:latin typeface="Arial"/>
            </a:endParaRPr>
          </a:p>
          <a:p>
            <a:pPr marL="60660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60660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228600"/>
            <a:ext cx="8001000" cy="22874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800"/>
            </a:br>
            <a:r>
              <a:rPr b="0" lang="en-US" sz="4800" spc="-1" strike="noStrike">
                <a:solidFill>
                  <a:srgbClr val="1f1f1f"/>
                </a:solidFill>
                <a:latin typeface="Tempus Sans ITC"/>
              </a:rPr>
              <a:t>Parents’ Involvement in Homework</a:t>
            </a:r>
            <a:r>
              <a:rPr b="0" lang="en-US" sz="4400" spc="-1" strike="noStrike">
                <a:solidFill>
                  <a:srgbClr val="1f1f1f"/>
                </a:solidFill>
                <a:latin typeface="Tempus Sans ITC"/>
              </a:rPr>
              <a:t> ~ Cons ~</a:t>
            </a:r>
            <a:endParaRPr b="0" lang="en-US" sz="4400" spc="-1" strike="noStrike">
              <a:solidFill>
                <a:srgbClr val="000000"/>
              </a:solidFill>
              <a:latin typeface="Arial"/>
            </a:endParaRPr>
          </a:p>
        </p:txBody>
      </p:sp>
      <p:sp>
        <p:nvSpPr>
          <p:cNvPr id="213" name="PlaceHolder 2"/>
          <p:cNvSpPr>
            <a:spLocks noGrp="1"/>
          </p:cNvSpPr>
          <p:nvPr>
            <p:ph/>
          </p:nvPr>
        </p:nvSpPr>
        <p:spPr>
          <a:xfrm>
            <a:off x="304920" y="2057040"/>
            <a:ext cx="8153280" cy="4189320"/>
          </a:xfrm>
          <a:prstGeom prst="rect">
            <a:avLst/>
          </a:prstGeom>
          <a:noFill/>
          <a:ln w="0">
            <a:noFill/>
          </a:ln>
        </p:spPr>
        <p:txBody>
          <a:bodyPr lIns="90000" rIns="90000" tIns="46800" bIns="46800" anchor="t">
            <a:normAutofit fontScale="99000"/>
          </a:bodyPr>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Parents do not focus on behavior, mainly on things such as:  grades and focus on tasks</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do not see a change or improvement on behavior</a:t>
            </a:r>
            <a:endParaRPr b="0" lang="en-US" sz="2400" spc="-1" strike="noStrike">
              <a:solidFill>
                <a:srgbClr val="000000"/>
              </a:solidFill>
              <a:latin typeface="Arial"/>
            </a:endParaRPr>
          </a:p>
          <a:p>
            <a:pPr marL="33624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In addition:</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Parents have no time to come</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Language barrier</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Students want their parents to come, if they communicate through internet</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Students’ behavior may not improve</a:t>
            </a:r>
            <a:endParaRPr b="0" lang="en-US" sz="24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362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6240" indent="-336240">
              <a:lnSpc>
                <a:spcPct val="80000"/>
              </a:lnSpc>
              <a:spcBef>
                <a:spcPts val="300"/>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Watkins, Thomas J.  2010      Quintana, Anita P. and Warren, Susan R.  2008</a:t>
            </a:r>
            <a:endParaRPr b="0" lang="en-US" sz="1800" spc="-1" strike="noStrike">
              <a:solidFill>
                <a:srgbClr val="000000"/>
              </a:solidFill>
              <a:latin typeface="Arial"/>
            </a:endParaRPr>
          </a:p>
          <a:p>
            <a:pPr marL="3362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71160"/>
            <a:ext cx="8229600" cy="13129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empus Sans ITC"/>
              </a:rPr>
              <a:t>Asian American/European American</a:t>
            </a:r>
            <a:br>
              <a:rPr sz="4000"/>
            </a:br>
            <a:r>
              <a:rPr b="0" lang="en-US" sz="4000" spc="-1" strike="noStrike">
                <a:solidFill>
                  <a:srgbClr val="000000"/>
                </a:solidFill>
                <a:latin typeface="Tempus Sans ITC"/>
              </a:rPr>
              <a:t>           Parents on Education</a:t>
            </a:r>
            <a:endParaRPr b="0" lang="en-US" sz="4000" spc="-1" strike="noStrike">
              <a:solidFill>
                <a:srgbClr val="000000"/>
              </a:solidFill>
              <a:latin typeface="Arial"/>
            </a:endParaRPr>
          </a:p>
        </p:txBody>
      </p:sp>
      <p:sp>
        <p:nvSpPr>
          <p:cNvPr id="215" name="PlaceHolder 2"/>
          <p:cNvSpPr>
            <a:spLocks noGrp="1"/>
          </p:cNvSpPr>
          <p:nvPr>
            <p:ph/>
          </p:nvPr>
        </p:nvSpPr>
        <p:spPr>
          <a:xfrm>
            <a:off x="304560" y="1828800"/>
            <a:ext cx="4343400" cy="5029200"/>
          </a:xfrm>
          <a:prstGeom prst="rect">
            <a:avLst/>
          </a:prstGeom>
          <a:noFill/>
          <a:ln w="0">
            <a:noFill/>
          </a:ln>
        </p:spPr>
        <p:txBody>
          <a:bodyPr lIns="90000" rIns="90000" tIns="46800" bIns="46800" anchor="t">
            <a:normAutofit fontScale="98000"/>
          </a:bodyPr>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Education is important</a:t>
            </a:r>
            <a:r>
              <a:rPr b="0" lang="en-US" sz="2600" spc="-1" strike="noStrike">
                <a:solidFill>
                  <a:srgbClr val="1f1f1f"/>
                </a:solidFill>
                <a:latin typeface="Tempus Sans ITC"/>
              </a:rPr>
              <a:t>  </a:t>
            </a:r>
            <a:endParaRPr b="0" lang="en-US" sz="26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1. Schumacher, Bev.  2000) </a:t>
            </a:r>
            <a:endParaRPr b="0" lang="en-US" sz="18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2. Huntsinger, S. Carol.    Jose, E. Paul.   2009</a:t>
            </a:r>
            <a:endParaRPr b="0" lang="en-US" sz="1800" spc="-1" strike="noStrike">
              <a:solidFill>
                <a:srgbClr val="000000"/>
              </a:solidFill>
              <a:latin typeface="Arial"/>
            </a:endParaRPr>
          </a:p>
          <a:p>
            <a:pPr marL="33300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900" spc="-1" strike="noStrike">
              <a:solidFill>
                <a:srgbClr val="000000"/>
              </a:solidFill>
              <a:latin typeface="Arial"/>
            </a:endParaRPr>
          </a:p>
          <a:p>
            <a:pPr marL="333000" indent="0">
              <a:lnSpc>
                <a:spcPct val="80000"/>
              </a:lnSpc>
              <a:spcBef>
                <a:spcPts val="125"/>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500" spc="-1" strike="noStrike">
                <a:solidFill>
                  <a:srgbClr val="1f1f1f"/>
                </a:solidFill>
                <a:latin typeface="Tempus Sans ITC"/>
              </a:rPr>
              <a:t> </a:t>
            </a:r>
            <a:endParaRPr b="0" lang="en-US" sz="5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Important to educate child at home, including more emphasis on own teaching as well</a:t>
            </a:r>
            <a:r>
              <a:rPr b="0" lang="en-US" sz="1800" spc="-1" strike="noStrike">
                <a:solidFill>
                  <a:srgbClr val="1f1f1f"/>
                </a:solidFill>
                <a:latin typeface="Tempus Sans ITC"/>
              </a:rPr>
              <a:t>  Huntsinger, S. Carol.   Jose, E. Paul.  “2009</a:t>
            </a:r>
            <a:endParaRPr b="0" lang="en-US" sz="1800" spc="-1" strike="noStrike">
              <a:solidFill>
                <a:srgbClr val="000000"/>
              </a:solidFill>
              <a:latin typeface="Arial"/>
            </a:endParaRPr>
          </a:p>
          <a:p>
            <a:pPr marL="333000" indent="0">
              <a:lnSpc>
                <a:spcPct val="8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6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Teachers teach in class, parents teach at home</a:t>
            </a:r>
            <a:r>
              <a:rPr b="0" lang="en-US" sz="12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300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3300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p:txBody>
      </p:sp>
      <p:sp>
        <p:nvSpPr>
          <p:cNvPr id="216" name="PlaceHolder 3"/>
          <p:cNvSpPr>
            <a:spLocks noGrp="1"/>
          </p:cNvSpPr>
          <p:nvPr>
            <p:ph/>
          </p:nvPr>
        </p:nvSpPr>
        <p:spPr>
          <a:xfrm>
            <a:off x="4952880" y="1905120"/>
            <a:ext cx="3733920" cy="5479920"/>
          </a:xfrm>
          <a:prstGeom prst="rect">
            <a:avLst/>
          </a:prstGeom>
          <a:noFill/>
          <a:ln w="0">
            <a:noFill/>
          </a:ln>
        </p:spPr>
        <p:txBody>
          <a:bodyPr lIns="90000" rIns="90000" tIns="46800" bIns="46800" anchor="t">
            <a:normAutofit/>
          </a:bodyPr>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are an important part of teaching their children</a:t>
            </a:r>
            <a:r>
              <a:rPr b="0" lang="en-US" sz="15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339840">
              <a:lnSpc>
                <a:spcPct val="80000"/>
              </a:lnSpc>
              <a:spcBef>
                <a:spcPts val="601"/>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Use schools techniques at home </a:t>
            </a:r>
            <a:endParaRPr b="0" lang="en-US" sz="24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Schumacher, Bev.  2000</a:t>
            </a:r>
            <a:endParaRPr b="0" lang="en-US" sz="1800" spc="-1" strike="noStrike">
              <a:solidFill>
                <a:srgbClr val="000000"/>
              </a:solidFill>
              <a:latin typeface="Arial"/>
            </a:endParaRPr>
          </a:p>
          <a:p>
            <a:pPr marL="339840" indent="-339840">
              <a:lnSpc>
                <a:spcPct val="80000"/>
              </a:lnSpc>
              <a:spcBef>
                <a:spcPts val="224"/>
              </a:spcBef>
              <a:buClr>
                <a:srgbClr val="000000"/>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000000"/>
                </a:solidFill>
                <a:latin typeface="Tempus Sans ITC"/>
              </a:rPr>
              <a:t>Floyd, Loury Ollison.  Veron-Dotson, Lisa Jo.   2009 </a:t>
            </a: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Help in classroom and in school as much as they can</a:t>
            </a:r>
            <a:r>
              <a:rPr b="0" lang="en-US" sz="16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8640"/>
            <a:ext cx="8229600" cy="26542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r>
              <a:rPr b="0" lang="en-US" sz="5400" spc="-1" strike="noStrike">
                <a:solidFill>
                  <a:srgbClr val="1f1f1f"/>
                </a:solidFill>
                <a:latin typeface="Tempus Sans ITC"/>
              </a:rPr>
              <a:t>Latino Parents  on  Education</a:t>
            </a:r>
            <a:endParaRPr b="0" lang="en-US" sz="5400" spc="-1" strike="noStrike">
              <a:solidFill>
                <a:srgbClr val="000000"/>
              </a:solidFill>
              <a:latin typeface="Arial"/>
            </a:endParaRPr>
          </a:p>
        </p:txBody>
      </p:sp>
      <p:sp>
        <p:nvSpPr>
          <p:cNvPr id="218" name="PlaceHolder 2"/>
          <p:cNvSpPr>
            <a:spLocks noGrp="1"/>
          </p:cNvSpPr>
          <p:nvPr>
            <p:ph/>
          </p:nvPr>
        </p:nvSpPr>
        <p:spPr>
          <a:xfrm>
            <a:off x="457200" y="2133720"/>
            <a:ext cx="8229600" cy="5364000"/>
          </a:xfrm>
          <a:prstGeom prst="rect">
            <a:avLst/>
          </a:prstGeom>
          <a:noFill/>
          <a:ln w="0">
            <a:noFill/>
          </a:ln>
        </p:spPr>
        <p:txBody>
          <a:bodyPr lIns="90000" rIns="90000" tIns="46800" bIns="46800" anchor="t">
            <a:normAutofit/>
          </a:bodyPr>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mportant to volunteer</a:t>
            </a: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1.</a:t>
            </a:r>
            <a:r>
              <a:rPr b="1" lang="en-US" sz="1800" spc="-1" strike="noStrike">
                <a:solidFill>
                  <a:srgbClr val="1f1f1f"/>
                </a:solidFill>
                <a:latin typeface="Tempus Sans ITC"/>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2.  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nvolve other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Meeting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Help in class and school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Language barrier between teachers and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3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1f1f1f"/>
                </a:solidFill>
                <a:latin typeface="Tempus Sans ITC"/>
              </a:rPr>
              <a:t>Theorists/Practitioners</a:t>
            </a:r>
            <a:endParaRPr b="0" lang="en-US" sz="5400" spc="-1" strike="noStrike">
              <a:solidFill>
                <a:srgbClr val="000000"/>
              </a:solidFill>
              <a:latin typeface="Arial"/>
            </a:endParaRPr>
          </a:p>
        </p:txBody>
      </p:sp>
      <p:sp>
        <p:nvSpPr>
          <p:cNvPr id="220" name="PlaceHolder 2"/>
          <p:cNvSpPr>
            <a:spLocks noGrp="1"/>
          </p:cNvSpPr>
          <p:nvPr>
            <p:ph/>
          </p:nvPr>
        </p:nvSpPr>
        <p:spPr>
          <a:xfrm>
            <a:off x="457200" y="1980720"/>
            <a:ext cx="8229600" cy="6473880"/>
          </a:xfrm>
          <a:prstGeom prst="rect">
            <a:avLst/>
          </a:prstGeom>
          <a:noFill/>
          <a:ln w="0">
            <a:noFill/>
          </a:ln>
        </p:spPr>
        <p:txBody>
          <a:bodyPr lIns="90000" rIns="90000" tIns="46800" bIns="46800" anchor="t">
            <a:normAutofit/>
          </a:bodyPr>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s theory  plays an important role in education.</a:t>
            </a:r>
            <a:r>
              <a:rPr b="1" lang="en-US" sz="1200" spc="-1" strike="noStrike">
                <a:solidFill>
                  <a:srgbClr val="1f1f1f"/>
                </a:solidFill>
                <a:latin typeface="Tempus Sans ITC"/>
              </a:rPr>
              <a:t>            </a:t>
            </a:r>
            <a:r>
              <a:rPr b="0" lang="en-US" sz="1800" spc="-1" strike="noStrike">
                <a:solidFill>
                  <a:srgbClr val="1f1f1f"/>
                </a:solidFill>
                <a:latin typeface="Tempus Sans ITC"/>
              </a:rPr>
              <a:t>Griffin, Dana and Steen, Sam. 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 discusses six types of involvements: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paren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mmunica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volunteer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learning at home,</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decision making and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llaborating</a:t>
            </a:r>
            <a:endParaRPr b="0" lang="en-US" sz="2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3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1800" spc="-1" strike="noStrike">
                <a:solidFill>
                  <a:srgbClr val="1f1f1f"/>
                </a:solidFill>
                <a:latin typeface="Tempus Sans ITC"/>
              </a:rPr>
              <a:t>Griffin, Dana and Steen, Sam  April 2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304560"/>
            <a:ext cx="7620120" cy="14475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500" spc="-1" strike="noStrike">
                <a:solidFill>
                  <a:srgbClr val="1f1f1f"/>
                </a:solidFill>
                <a:latin typeface="Nimbus Script"/>
              </a:rPr>
              <a:t>   </a:t>
            </a:r>
            <a:r>
              <a:rPr b="0" lang="en-US" sz="8500" spc="-1" strike="noStrike">
                <a:solidFill>
                  <a:srgbClr val="1f1f1f"/>
                </a:solidFill>
                <a:latin typeface="Nimbus Script"/>
              </a:rPr>
              <a:t>Hypothesis</a:t>
            </a:r>
            <a:endParaRPr b="0" lang="en-US" sz="8500" spc="-1" strike="noStrike">
              <a:solidFill>
                <a:srgbClr val="000000"/>
              </a:solidFill>
              <a:latin typeface="Arial"/>
            </a:endParaRPr>
          </a:p>
        </p:txBody>
      </p:sp>
      <p:sp>
        <p:nvSpPr>
          <p:cNvPr id="222" name="PlaceHolder 2"/>
          <p:cNvSpPr>
            <a:spLocks noGrp="1"/>
          </p:cNvSpPr>
          <p:nvPr>
            <p:ph/>
          </p:nvPr>
        </p:nvSpPr>
        <p:spPr>
          <a:xfrm>
            <a:off x="-360" y="1752480"/>
            <a:ext cx="8534520" cy="4648320"/>
          </a:xfrm>
          <a:prstGeom prst="rect">
            <a:avLst/>
          </a:prstGeom>
          <a:noFill/>
          <a:ln w="0">
            <a:noFill/>
          </a:ln>
        </p:spPr>
        <p:txBody>
          <a:bodyPr lIns="90000" rIns="90000" tIns="46800" bIns="46800" anchor="t">
            <a:normAutofit fontScale="80000"/>
          </a:bodyPr>
          <a:p>
            <a:pPr marL="27432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0" lang="en-US" sz="3800" spc="-1" strike="noStrike">
                <a:solidFill>
                  <a:srgbClr val="1f1f1f"/>
                </a:solidFill>
                <a:latin typeface="Nimbus Script"/>
              </a:rPr>
              <a:t> </a:t>
            </a:r>
            <a:r>
              <a:rPr b="0" lang="en-US" sz="3800" spc="-1" strike="noStrike">
                <a:solidFill>
                  <a:srgbClr val="1f1f1f"/>
                </a:solidFill>
                <a:latin typeface="Nimbus Script"/>
              </a:rPr>
              <a:t>Over a few week study in a Public School X, a teacher will look at ways parents are involved and not involved in his/her classroom. We will look into diversities of how parents view involvement in the classroom and at home.  The teacher would send out a survey to the homes, call and invite parents to the classroom to volunteer, or invite parents to volunteer on a field trip. </a:t>
            </a:r>
            <a:endParaRPr b="0" lang="en-US" sz="3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48:45Z</dcterms:created>
  <dc:creator>Inna Shenker</dc:creator>
  <dc:description/>
  <dc:language>en-US</dc:language>
  <cp:lastModifiedBy>Inna Shenker</cp:lastModifiedBy>
  <dcterms:modified xsi:type="dcterms:W3CDTF">2010-10-19T02:02:18Z</dcterms:modified>
  <cp:revision>22</cp:revision>
  <dc:subject/>
  <dc:title>Parental Involvement  &amp; Teacher Communication</dc:title>
</cp:coreProperties>
</file>